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DBF-5BDC-4079-9604-2766D3B615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3CD2-021E-4AB4-BAEF-ED0D14263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B8D2-E098-4B33-A9C8-DDA3E8C5FE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C953-0E08-450E-B75A-4EA87F4992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258B-097E-4E88-BFA9-8B43EC03D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B6D-D4EF-4A90-B487-843AD2202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A919-F6CB-4F4E-9CF7-ADCB26F6F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138B-DD15-4541-98BC-644BAB02C7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E38-4A8C-4AD6-8BF4-549434EA8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E6F1-A34D-4258-A146-3293D6843A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C9B-3B2F-4791-AE94-FA1066BFD8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C2F6-5120-4718-ACA1-00A4185CA1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60BA-4499-464C-A3F5-2F092A1551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C941-2EA2-43D2-9D48-3B7649317E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91EE-090A-47F1-A3A8-A827DC8E53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B3C-F3B8-44B5-982C-87B1458F76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892-416D-4243-BF48-17C70212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A3D-1627-4AF7-A452-D5CBAEE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92E-4AC5-406A-82D1-FCCD3860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0C5-D833-4101-8700-DE631B90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9F25-565F-4CE9-94AE-76E415EC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5F4-3D2E-4304-9491-A115316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5B8-8483-4A61-81CC-A3F291A3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FBD5-0B39-41EF-9CA5-40ED9AD2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7049-46B2-471B-9AFA-98C87D2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D0E5-964D-4832-826F-C327BD0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435-B579-4A5E-BF61-4A33838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625-9DEF-4F9A-A973-8A6A0A18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E804-C9BE-4C10-BBF1-9F9D436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E7B2-978D-4A0C-89D5-5CCED38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F593-6BF5-44D6-9B0B-D77D0C62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4B1B-1319-4B6F-ACC9-367B2989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EEC0-7FD0-40FC-9584-6AACBD61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B7BE-7ADC-4F9F-90EF-D3874E3A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6CF4-9E79-4DB1-B46C-96B1C0E5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6CAB-DF63-4ECB-ADFA-E34F462E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0195-B72A-430B-88F5-037B3AF4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D318-3FEF-49F2-8E48-87AF77C2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9DE-F86E-49FF-B458-0B25040A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5D68-D909-4001-BC50-F107D0E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5682-581C-4477-B247-567DBAA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768E-E1DB-4E85-9D55-3D41543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7B06-CF41-4436-9EF4-DEEC77A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E4A3-4BE0-4B26-8CC3-F158565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CB63-1E33-4456-92E5-49979382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7AFF-26BA-4320-BE15-451B4E6E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73B9-9D00-4920-BC88-D407407B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1683-5473-41E3-841D-20E3C9A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D8BB-A282-495F-B663-ACA0AB7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03C-A16B-4126-9C19-52A13F25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5474-D042-4F35-B7BD-23F287CB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C297-6529-4283-82EE-6BD83B5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FFCA-62B7-4E46-95AB-39B60B7F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AFA5-11CE-4F67-AE6E-010825F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72CC-5B60-4D5B-94EE-52BA712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1646-B283-453C-BE3A-7A7FE000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70D6-765E-47CA-B3A6-E83382D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D53E-0612-4F00-B3B4-1677E37F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A755-2929-4EB9-93C8-FD5D1380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802-D553-4506-B66F-ADFFDC67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EA4-EB2A-460F-854E-0556D48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E31-9AFD-4C0F-9B63-467F4268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E48-47AC-4E5F-893F-80C2F7A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7D5-DA36-4AFE-9DD9-1E72A657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82B9-5B82-42F0-9338-A94A6C50CC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1C8-8AC4-4270-BA13-404B7DF7B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428760" y="428760"/>
            <a:ext cx="8286480" cy="60721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428760" y="428760"/>
            <a:ext cx="8286480" cy="60721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52B2-2ABA-4C2E-A6F3-E30C9A03F5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C77E-2663-465D-B449-658FEE41D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C64-9736-4ADE-B070-E1704D3780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936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1588-EF3A-4752-B422-11934B207052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428760" y="428760"/>
            <a:ext cx="8286480" cy="60721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23D7-E5CD-457E-8144-544BCE9FFD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9E23-DE1A-46C5-B255-98B55FBAB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хема 6" descr=""/>
          <p:cNvPicPr/>
          <p:nvPr/>
        </p:nvPicPr>
        <p:blipFill>
          <a:blip r:embed="rId1"/>
          <a:stretch/>
        </p:blipFill>
        <p:spPr>
          <a:xfrm>
            <a:off x="378000" y="2103480"/>
            <a:ext cx="8388000" cy="1573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643720" y="4314600"/>
            <a:ext cx="300024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Шамаев М.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ИАТЭ НИЯУ «МИФ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3637080" y="5967360"/>
            <a:ext cx="19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нинск,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одзаголовок 2"/>
          <p:cNvSpPr/>
          <p:nvPr/>
        </p:nvSpPr>
        <p:spPr>
          <a:xfrm>
            <a:off x="714240" y="4314960"/>
            <a:ext cx="457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Номин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«Лучший инновационный проект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42960" y="571680"/>
            <a:ext cx="785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урс инновационных проект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I-ый Региональный молодежный инновационный конвент Калуж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полнительная 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Содержимое 4" descr=""/>
          <p:cNvPicPr/>
          <p:nvPr/>
        </p:nvPicPr>
        <p:blipFill>
          <a:blip r:embed="rId1"/>
          <a:stretch/>
        </p:blipFill>
        <p:spPr>
          <a:xfrm>
            <a:off x="438120" y="1352520"/>
            <a:ext cx="8267760" cy="4780080"/>
          </a:xfrm>
          <a:prstGeom prst="rect">
            <a:avLst/>
          </a:prstGeom>
          <a:ln w="0">
            <a:noFill/>
          </a:ln>
        </p:spPr>
      </p:pic>
      <p:sp>
        <p:nvSpPr>
          <p:cNvPr id="208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A015-DE74-4381-9822-A8516ABA2171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2499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5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3EC8-6DE4-4718-941B-1252E1C80F39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00040" y="4060800"/>
          <a:ext cx="8143920" cy="20113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акты учас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акты руководителя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маев Михаил Сергее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shamaev@gmail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10) 868-56-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усов Павел Анатолье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aapl@gmail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10) 526-1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5"/>
          <p:cNvSpPr/>
          <p:nvPr/>
        </p:nvSpPr>
        <p:spPr>
          <a:xfrm>
            <a:off x="500040" y="1357200"/>
            <a:ext cx="814392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полнение А (Платформа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CS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808200" y="1357200"/>
            <a:ext cx="7527600" cy="4768920"/>
          </a:xfrm>
          <a:prstGeom prst="rect">
            <a:avLst/>
          </a:prstGeom>
          <a:ln w="0">
            <a:noFill/>
          </a:ln>
        </p:spPr>
      </p:pic>
      <p:sp>
        <p:nvSpPr>
          <p:cNvPr id="215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F780-EEB9-4A1A-8E40-14FD82CF3DC3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полнение Б (Пользовател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57C9-A41D-4D6A-9867-C5F7A8148C2F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500040" y="1285920"/>
            <a:ext cx="8143920" cy="157176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С 5 декабря 2010 г. по настоящее время (за 4 месяц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в модуле зарегистрировалось 119 пользова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получено 11,63 Гб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и отправлено 1,83 Гб интернет-трафик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в среднем по 100 Мб и 15,7 Мб на каждого пользователя соответственно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Диаграмма 7"/>
          <p:cNvGraphicFramePr/>
          <p:nvPr/>
        </p:nvGraphicFramePr>
        <p:xfrm>
          <a:off x="428760" y="2905200"/>
          <a:ext cx="824868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905200"/>
                    <a:ext cx="82486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полнение В1 (Скриншот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CS-Internet)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370160" y="1357200"/>
            <a:ext cx="6403680" cy="4768920"/>
          </a:xfrm>
          <a:prstGeom prst="rect">
            <a:avLst/>
          </a:prstGeom>
          <a:ln w="0">
            <a:noFill/>
          </a:ln>
        </p:spPr>
      </p:pic>
      <p:sp>
        <p:nvSpPr>
          <p:cNvPr id="223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226-8674-4B3E-91E1-4422043B815A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полнение В2 (скриншот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CS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lephon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6" descr="администратор.png"/>
          <p:cNvPicPr/>
          <p:nvPr/>
        </p:nvPicPr>
        <p:blipFill>
          <a:blip r:embed="rId1"/>
          <a:stretch/>
        </p:blipFill>
        <p:spPr>
          <a:xfrm>
            <a:off x="757080" y="1357200"/>
            <a:ext cx="7629840" cy="4768920"/>
          </a:xfrm>
          <a:prstGeom prst="rect">
            <a:avLst/>
          </a:prstGeom>
          <a:ln w="0">
            <a:noFill/>
          </a:ln>
        </p:spPr>
      </p:pic>
      <p:sp>
        <p:nvSpPr>
          <p:cNvPr id="226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C9A5-D055-4D42-80B5-53F4DEC61A59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1" marL="1403280" indent="179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ное направление 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вободно-распространяемого программного обеспечения в государственных органах, предприятиях и образовательных учреждениях в целях обеспечения национальной безопасности в сфере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F53-6633-4427-A39C-9F9D329FE16D}" type="slidenum">
              <a:rPr b="1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хема 6" descr=""/>
          <p:cNvPicPr/>
          <p:nvPr/>
        </p:nvPicPr>
        <p:blipFill>
          <a:blip r:embed="rId1"/>
          <a:stretch/>
        </p:blipFill>
        <p:spPr>
          <a:xfrm>
            <a:off x="420840" y="2895480"/>
            <a:ext cx="8540640" cy="31147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0" descr="12788534675Q8sFN.jpg"/>
          <p:cNvPicPr/>
          <p:nvPr/>
        </p:nvPicPr>
        <p:blipFill>
          <a:blip r:embed="rId2"/>
          <a:stretch/>
        </p:blipFill>
        <p:spPr>
          <a:xfrm>
            <a:off x="642960" y="1428840"/>
            <a:ext cx="1000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овиз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Содержимое 5" descr=""/>
          <p:cNvPicPr/>
          <p:nvPr/>
        </p:nvPicPr>
        <p:blipFill>
          <a:blip r:embed="rId1"/>
          <a:stretch/>
        </p:blipFill>
        <p:spPr>
          <a:xfrm>
            <a:off x="438120" y="1341360"/>
            <a:ext cx="8267760" cy="479736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E1A-958E-41CB-AA1E-435262DA3D7C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7" descr=""/>
          <p:cNvPicPr/>
          <p:nvPr/>
        </p:nvPicPr>
        <p:blipFill>
          <a:blip r:embed="rId1"/>
          <a:stretch/>
        </p:blipFill>
        <p:spPr>
          <a:xfrm>
            <a:off x="450720" y="1352520"/>
            <a:ext cx="8242560" cy="4780080"/>
          </a:xfrm>
          <a:prstGeom prst="rect">
            <a:avLst/>
          </a:prstGeom>
          <a:ln w="0">
            <a:noFill/>
          </a:ln>
        </p:spPr>
      </p:pic>
      <p:sp>
        <p:nvSpPr>
          <p:cNvPr id="189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CBF-9813-416D-9A5F-1FD5A4FDE000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5" descr=""/>
          <p:cNvPicPr/>
          <p:nvPr/>
        </p:nvPicPr>
        <p:blipFill>
          <a:blip r:embed="rId2"/>
          <a:stretch/>
        </p:blipFill>
        <p:spPr>
          <a:xfrm>
            <a:off x="469800" y="1341360"/>
            <a:ext cx="8266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одули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4" descr=""/>
          <p:cNvPicPr/>
          <p:nvPr/>
        </p:nvPicPr>
        <p:blipFill>
          <a:blip r:embed="rId1"/>
          <a:stretch/>
        </p:blipFill>
        <p:spPr>
          <a:xfrm>
            <a:off x="438120" y="1341360"/>
            <a:ext cx="8267760" cy="480384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A3D8-1062-4EA6-9FA5-92EEDF37DF99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одули в разработ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4" descr=""/>
          <p:cNvPicPr/>
          <p:nvPr/>
        </p:nvPicPr>
        <p:blipFill>
          <a:blip r:embed="rId1"/>
          <a:stretch/>
        </p:blipFill>
        <p:spPr>
          <a:xfrm>
            <a:off x="438120" y="1341360"/>
            <a:ext cx="8285040" cy="4803840"/>
          </a:xfrm>
          <a:prstGeom prst="rect">
            <a:avLst/>
          </a:prstGeom>
          <a:ln w="0">
            <a:noFill/>
          </a:ln>
        </p:spPr>
      </p:pic>
      <p:sp>
        <p:nvSpPr>
          <p:cNvPr id="196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4C2-56F2-4D71-AF70-73319097C93C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тенциальный ры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4" descr=""/>
          <p:cNvPicPr/>
          <p:nvPr/>
        </p:nvPicPr>
        <p:blipFill>
          <a:blip r:embed="rId1"/>
          <a:stretch/>
        </p:blipFill>
        <p:spPr>
          <a:xfrm>
            <a:off x="438120" y="1341360"/>
            <a:ext cx="8267760" cy="4803840"/>
          </a:xfrm>
          <a:prstGeom prst="rect">
            <a:avLst/>
          </a:prstGeom>
          <a:ln w="0">
            <a:noFill/>
          </a:ln>
        </p:spPr>
      </p:pic>
      <p:sp>
        <p:nvSpPr>
          <p:cNvPr id="199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E9C-D376-4D9F-9441-6361496C3992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4" descr=""/>
          <p:cNvPicPr/>
          <p:nvPr/>
        </p:nvPicPr>
        <p:blipFill>
          <a:blip r:embed="rId1"/>
          <a:stretch/>
        </p:blipFill>
        <p:spPr>
          <a:xfrm>
            <a:off x="438120" y="1341360"/>
            <a:ext cx="8267760" cy="4797360"/>
          </a:xfrm>
          <a:prstGeom prst="rect">
            <a:avLst/>
          </a:prstGeom>
          <a:ln w="0">
            <a:noFill/>
          </a:ln>
        </p:spPr>
      </p:pic>
      <p:sp>
        <p:nvSpPr>
          <p:cNvPr id="202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C1F7-E01C-4728-AACE-FACB9CC94030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339a00"/>
          </a:solidFill>
          <a:ln w="25560">
            <a:solidFill>
              <a:srgbClr val="ffffff"/>
            </a:solidFill>
            <a:miter/>
          </a:ln>
        </p:spPr>
        <p:txBody>
          <a:bodyPr lIns="32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астие в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ahoma"/>
              </a:rPr>
              <a:t>За год система HTCS была представлена в конкурсах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ahoma"/>
              </a:rPr>
              <a:t>Конкурс инновационных проектов «У.М.Н.И.К.» г. в рамках Обнинского инновационного форума, 13 мая 2010 – победитель в номинации «Информационные технологи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ahoma"/>
              </a:rPr>
              <a:t>Конкурс проектов «SIFE – Students In Free Enterprise (студенты в свободном предпринимательстве)», 7 апреля 2010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ahoma"/>
              </a:rPr>
              <a:t>Фестиваль Молодежной Науки Калужской области, 23 мая 2010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ahoma"/>
              </a:rPr>
              <a:t>Всероссийский молодежный образовательный форум «Селигер 2010», конкурс «Зворыкинский проект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5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ahoma"/>
              </a:rPr>
              <a:t>Форум молодежи в ЦФО, Тверь, 10-12 марта 2011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929720" y="635652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9E4-4000-42DB-A336-F6882779A55A}" type="slidenum">
              <a:rPr b="1" lang="ru-RU" sz="2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0:56:41Z</dcterms:created>
  <dc:creator>shaman</dc:creator>
  <dc:description/>
  <dc:language>en-US</dc:language>
  <cp:lastModifiedBy>shaman</cp:lastModifiedBy>
  <dcterms:modified xsi:type="dcterms:W3CDTF">2011-05-19T22:01:15Z</dcterms:modified>
  <cp:revision>74</cp:revision>
  <dc:subject/>
  <dc:title>ГИБРИДНАЯ ИНФОРМАЦИОННО-ТЕЛЕКОММУНИКАЦИОННАЯ СИСТЕМА HTCS (Hybrid Telecommunication System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NsKlJpR7fyLSc9YVzAEMYFkbRrsmf-bEKjvZ56ETbX0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026.3768</vt:lpwstr>
  </property>
  <property fmtid="{D5CDD505-2E9C-101B-9397-08002B2CF9AE}" pid="5" name="Google.Documents.PreviousRevisionId">
    <vt:lpwstr>01685716634717465488</vt:lpwstr>
  </property>
  <property fmtid="{D5CDD505-2E9C-101B-9397-08002B2CF9AE}" pid="6" name="Google.Documents.RevisionId">
    <vt:lpwstr>02717597764498383239</vt:lpwstr>
  </property>
  <property fmtid="{D5CDD505-2E9C-101B-9397-08002B2CF9AE}" pid="7" name="Google.Documents.Tracking">
    <vt:lpwstr>true</vt:lpwstr>
  </property>
</Properties>
</file>