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2BE-AD9B-491C-A275-FA32376C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9A3-E691-4464-8F6C-57588DCB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4D6-71B0-4234-86F5-107635C9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A09-DC2C-44B3-8846-6CB3599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7933-BFEB-4027-B0AC-2CBD13DA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B92E-DA7E-402D-AE3C-9EAD2405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4AFE-1E2F-4E96-A472-163C09A6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E3A-38E2-44BD-8A60-3FCC28A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8AD-F0CF-4589-B9BA-FA2FD547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88B-AD29-4B4E-90DA-9C02A7A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67F3-964A-4B92-8030-B91B168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C14-D964-4EAC-887B-E0A31FF3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5D97-37C2-4FA9-9650-08567A9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62B8-0473-404A-9397-538CE0F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40A8-3E8B-411C-AE3B-534F19BE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F53-0443-4ED8-A271-FA5BC469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B08-BF52-47A6-BB8C-4BF4C847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4571-1029-4862-A448-80D1438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BF11-1893-4E34-B21B-7447926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58FD-2054-4536-8506-8BEFCBE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510D-9801-4A9E-8C9C-794C5FC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014B-FD85-49B7-9998-5EB8D0B2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31B-8809-4E2F-9CA1-A8B1707F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5C17-C9AE-4F5A-8BA0-582F275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0C29-7B53-46A3-A851-2B33AA6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DD79-BFF0-4219-ABCD-4AFE62B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D3C7-E842-43C4-9296-006A69D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F84B-DEC3-415C-9345-9C19559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3BE1-5AA2-47FB-9851-A47FEF41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3AFA-2354-4868-A86E-27FFFF0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5DD1-9FF1-4AE2-8A02-8DFFBADA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B495-796A-43E6-A32D-EB6CEFA6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F184-E5CE-457F-9F7A-4497AE90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A7C-4B01-4595-923E-03044C0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D08C-20B0-4CB7-9C8B-C71A64B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AF2B-4A58-4A51-89DE-819D7C1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9F29-7427-4936-8698-52C761E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7D7D-2053-4B91-935B-A6C48C1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5F8D-BD8D-4B82-A1E0-F969240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6B0D-FD92-4684-B5AB-81B5123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6414-BBCA-42C6-AA35-3AEC5C5D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9EEF-B3F3-4130-96A4-62B6C0A0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8E0D-85F8-4F0D-B1C1-3BB16954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0DE-B890-45A5-AD1B-44C19646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82F-27BF-43A3-8F4E-D4B2929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DEE-27F8-4ACC-B158-D642BCC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081-FC15-4758-A617-1B53A3F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C24-2B37-41B5-A414-0516C42C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419-F451-4383-976B-D922B59379A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6B7-BB9F-4456-B291-B13E7B21081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F19-23D9-48D0-AFB1-5BAE4AAB8B8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7C44-06B5-4686-8288-B8D66B41404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c9e1f"/>
                </a:solidFill>
                <a:latin typeface="Arial Narrow"/>
              </a:rPr>
              <a:t>Автор</a:t>
            </a:r>
            <a:r>
              <a:rPr b="0" lang="en-US" sz="1700" spc="-1" strike="noStrike">
                <a:solidFill>
                  <a:srgbClr val="dc9e1f"/>
                </a:solidFill>
                <a:latin typeface="Arial Narrow"/>
              </a:rPr>
              <a:t>: </a:t>
            </a:r>
            <a:r>
              <a:rPr b="0" lang="ru-RU" sz="1700" spc="-1" strike="noStrike">
                <a:solidFill>
                  <a:srgbClr val="dc9e1f"/>
                </a:solidFill>
                <a:latin typeface="Arial Narrow"/>
              </a:rPr>
              <a:t>Чернядьев Виталий Игоревич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РАЗРАБОТКА И ВНЕДРЕНИЕ НОВОГО ТИПА СИСТЕМ ХРАНЕНИЯ ДАННЫХ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CD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(ВСТАВИТЬ КРАСИВЫЙ РИСУНОК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C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CD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HCD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устройство для хранения/записи/чтения (ПЗУ) больших объемов информации (до 250 терабайт) в виде цифрового двоичного ко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Сферы применения</a:t>
            </a: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Навигационные системы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ЗУ крупных, малых, средних вычислительных сетей (малый, средний, крупный бизнес, сеть Интернет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уперкомпьютеры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ерсональные компьютеры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Аудиосистемы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идеосистемы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ПОТРЕБИТЕЛЬСКИЕ ПРЕИМУЩЕСТВ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Таблица 6" descr=""/>
          <p:cNvPicPr/>
          <p:nvPr/>
        </p:nvPicPr>
        <p:blipFill>
          <a:blip r:embed="rId1"/>
          <a:stretch/>
        </p:blipFill>
        <p:spPr>
          <a:xfrm>
            <a:off x="1712880" y="1603440"/>
            <a:ext cx="57182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КТУАЛЬНОСТЬ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И ЗАДАЧИ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Цель проект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– завоевание определенной не менее 5 % рынк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Задачи проекта</a:t>
            </a: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) Привлечение инвестиций в объеме 40 млн. руб.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) Проведение ОКР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) Привлечение инвестиций в объеме 60 млн. руб.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4) Подготовка производств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5) Построение системы сбыт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6) Запуск производств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7)  Сбыт продукци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ПОТЕНЦИАЛЬНЫЕ ПАРТНЕР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Data storage institute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– институт носителей информации (Сингапур)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SAE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TDK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)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производитель магнитных головок и систем позиционирования, применяющихся в современных жестких дисках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SCHOTT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– производитель изделий из прецизионного стекла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PI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– производитель линейных систем перемещения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 Narrow"/>
              </a:rPr>
              <a:t>NIDEC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производитель асинхронных приводов, применяющихся в современных жестких дисках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СРОК ОКУПАЕМОСТИ ПРОЕКТ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2" descr="C:\Users\Винт\Desktop\Новый точечный рисунок.bmp"/>
          <p:cNvPicPr/>
          <p:nvPr/>
        </p:nvPicPr>
        <p:blipFill>
          <a:blip r:embed="rId1"/>
          <a:stretch/>
        </p:blipFill>
        <p:spPr>
          <a:xfrm>
            <a:off x="2484360" y="1557360"/>
            <a:ext cx="38181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УВСТВИТЕЛЬНОСТЬ ПРОЕКТ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12" descr="Описание: C:\Users\Винт\Desktop\Последняя вариация\График анализа чуствительности.bmp"/>
          <p:cNvPicPr/>
          <p:nvPr/>
        </p:nvPicPr>
        <p:blipFill>
          <a:blip r:embed="rId1"/>
          <a:stretch/>
        </p:blipFill>
        <p:spPr>
          <a:xfrm>
            <a:off x="2484360" y="1557360"/>
            <a:ext cx="37940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ИНТЕГРАЛЬНЫЕ ПОКАЗАТЕЛИ ПРОЕКТ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истый приведенный доход </a:t>
            </a: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NPV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на 48 месяц реализации проекта составит </a:t>
            </a: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32 млн. руб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Индекс прибыльности </a:t>
            </a: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PI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оставит </a:t>
            </a: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1,4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нутренняя норма рентабельности </a:t>
            </a:r>
            <a:r>
              <a:rPr b="0" lang="en-US" sz="1700" spc="-1" strike="noStrike">
                <a:solidFill>
                  <a:srgbClr val="00b050"/>
                </a:solidFill>
                <a:latin typeface="Arial Narrow"/>
              </a:rPr>
              <a:t>IRR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оставит </a:t>
            </a:r>
            <a:r>
              <a:rPr b="0" lang="ru-RU" sz="1700" spc="-1" strike="noStrike">
                <a:solidFill>
                  <a:srgbClr val="00b050"/>
                </a:solidFill>
                <a:latin typeface="Arial Narrow"/>
              </a:rPr>
              <a:t>50 %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8:22Z</dcterms:created>
  <dc:creator>Винт</dc:creator>
  <dc:description/>
  <dc:language>en-US</dc:language>
  <cp:lastModifiedBy>Винт</cp:lastModifiedBy>
  <dcterms:modified xsi:type="dcterms:W3CDTF">2011-05-19T18:05:11Z</dcterms:modified>
  <cp:revision>28</cp:revision>
  <dc:subject/>
  <dc:title>Разработка и внедрение нового типа систем хранения данных HCD</dc:title>
</cp:coreProperties>
</file>