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5310-4E68-4562-9DC9-6CB912065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6915-503C-43E1-B542-018E93CC09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E5135-EA56-46B9-A0A1-2DE8BA9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04E42-81B4-4647-843D-DB286BDC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BA4F3-1CCE-470B-8C7A-CCC0FB82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CF632-053E-4D3A-B952-7E214B35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3F1CF-AD1A-4CF5-89C0-AD4DD72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5ACBB-86C3-4591-AF60-C2C9EE7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0CC8C-319C-40C3-A066-4A8A692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28CA9-F3B5-48B8-8670-4BBC4559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85F50-8E83-41AC-A230-62E511EB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2D602-AC11-4BF1-B3FC-A85CAF49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B9E8-3084-47D0-AF6F-531EF06AEB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2C12F-900A-44FA-BCAB-81E9599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3DA87-B548-429D-A49A-C64683D9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F1FE2-2003-4962-A6F4-38140D1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7A67F-B4D5-483D-955F-03ED0EF7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C6339-1408-46CF-B6BB-ED430AA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D0CBC-4C0A-47D9-9963-F5A292F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CD714-3606-4AFE-883A-0435235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9B0F0-D025-4BC9-B000-239A5384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069466-B3CA-4ADD-AF4A-2346271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644D3-33EF-433E-B287-415F12E5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2B71-F053-4E5F-AA85-B5771C6275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9ACBB-42B3-4A3B-8D4F-0DA38F77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8E513-BCF2-494D-9719-32D4F89D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D580A6-7E39-4463-BB23-BCBF580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75EA5-EAF2-43BD-A2B7-3CB8423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9BD6A-7776-4D98-A55B-E41BC9B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2B1A9-2AC3-498D-B1B8-71898449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B7B80-DB78-45E7-B123-B0D62EDE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B19B1-BCEE-44C2-B571-709238F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A463F-233F-40B7-B980-119B4DD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2AEB9-AB19-4406-8AC6-F4FEA1C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CEABE-BFC4-47F0-A31A-B4B6B392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2320E-34C4-48DE-826F-73FAE34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46FDA-024E-40F2-9A9D-02CC42CA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E7354-8B33-42BE-8B26-D74951C3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B1635-9C72-4BB5-90BF-EECD436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31806-309B-44D4-9B31-6E134FC1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0A06D0-07F4-45B9-9811-126E604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848AC-906C-4EC4-B5FB-3630025B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DCD1B-C1D3-4A0A-BA0E-802A1B4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2FF17-85DC-4F77-AD49-72824C7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0F0BC8-811A-4E0F-A2D1-9255813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6CF7-A074-467C-BDC4-4C4110E4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4BD06-114B-4116-9A06-D033D7C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FD8F3-464C-4ECE-B962-CCD1B4C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B3D90C-3281-4FF4-B4D5-3C96B48A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427F49-7ED2-481D-AD49-78B2116F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CC465-FC1F-4BE3-AD98-BA1C91BE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AE2A-2BAA-4126-8FD0-2C52269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7D4F-DC0C-4DE4-9024-FA338744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D347C-138E-43DE-A3CF-DDDCAB9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0852E-870A-4EEC-9AA8-0501A8E8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A4CA1-5A7F-474F-96AC-958E51F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DDD4-B5C4-495A-BD5B-F15E99624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EFB73-D978-4D07-96ED-B485285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E6DD2-1823-43C1-A2F6-728935A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E4BD1-189C-40F6-BBDA-E6794179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97110-4919-4FE0-A265-7AC2B349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9374-33E5-46DB-85B3-24F3DA77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67C8C-0A23-44E8-82BB-448C5FB8DB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1EEEE-3B6C-468A-9E08-7C01D50E68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C8ECE-03A2-4351-BA60-990529B011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FB286-187A-447B-946E-1DAE8A01FD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12B68-4106-46AF-A30E-A9C09987D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3D2F-4752-4B6F-911A-0855886392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7081-EDA2-434B-BE84-FC234D7412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D01D4-C861-484A-BA86-EAB3E1FB53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D8ED-D697-4F26-8F5F-B5BAFE3531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7560A-FFA6-4FD0-A530-35B26DE44A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167D-B590-4747-AFE9-5F02974D88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2750-89D2-4702-8B6E-4B8AB3CF6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94DD-60C5-4124-A3C2-CE88BF6F75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B44D-7D4A-4E43-AF1F-45921D9235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07E38-433D-4AE1-9839-15C64DC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F5DD-2EFF-430B-BA5D-D2D229ED2A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B2CD4-6CA5-4032-91D1-A7BCBF7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91F5B-96DA-4B6D-AB92-7E79F3F5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DDF92-4F3A-4E9D-9AB1-8A76343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8F47F-D05A-41A5-B0BF-C5A0F1E5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D2B2A-9F4A-4965-AD36-CE7A6EA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37EA5-D960-46DD-A659-D2C132C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DC257-AA49-4C18-999A-75D1D5A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45B69-2256-490D-89B3-3DA46F4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7FAF0-07F5-4F5F-AF8D-C225DAA4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0CD51-61D9-4339-9F5D-F70D9759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90F5-21FE-48B6-8308-C73591BFE7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8851B-7E53-445D-BCDE-59141491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5AD25-B420-47F5-87BD-7857BBD5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EAF3E-1FA2-40DB-974C-765B785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1BDEC-7087-4104-8BCA-8C525AF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CD410-CB37-4DE9-A53A-36339F22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4D313-9171-4E86-9CC8-EA2A897D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FED6C-B0D7-431F-A8E3-3D7C5CC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C2407-02CC-41A0-9C89-4E5DE92D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59FEF-0CF9-4760-80D6-6226E7B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1BBF1-3047-4462-844D-BD5FD77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22AB-024D-498D-9E34-8D42088ADF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E78E2-8FD9-4C07-9611-DC5D2A88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FA642-6E14-473E-AB36-1F84A958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4DEC5-1076-473F-BE5E-A2EBDBB1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A8EDF-67F9-474C-AFB5-1BDE3E9B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5C28D-64C1-453F-AA89-AAF86B3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30059-9A56-4B04-9AFD-5EF9697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CD235-BF1C-4CBB-8948-5F70883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97A63-89F8-4AB6-86DB-159C8B9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8FB91-B78B-459E-8692-9469ED12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56F8D-78F3-44A1-8A2D-6C53209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BB84-304F-46C8-B5E5-F4325241F1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F0C05-C461-42FE-B8BA-98455E5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8D2EC-3DFB-4090-BF37-4F1DCA3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81606-25F5-4195-98BC-AA3C533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8E5EB-F8C6-4A4B-8ABA-0737D3A0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FD848-A521-4523-B7F5-A244D695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B2BA6-2E53-4565-9F1A-B79CF79D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189D8-F95F-46A5-9AA7-9014A189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1AF71-1499-44CF-ADD0-97B474F0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B05F1-A5B2-4D63-9F9A-F6EDF56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38432-A4FF-48A2-8275-5C51D4B2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B526-69D4-41C3-A081-ED6EC00F01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5ACE5-B0C6-4338-846D-AC9C92EF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34ED8-8C10-49E7-9BA3-3B3D997D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82846-3FDE-4062-9F5B-747999F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78D10-27CE-48BE-B0D0-436B76D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10D36-D0AA-42CC-8F98-48F1AD44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1E9B6-1DA3-4985-ADBD-C4C75A2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6B4D3-E062-4B87-8C39-A1CB36B8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B120E-68B8-43D9-A7D4-4E0B8A2C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514F4-BF63-46A5-8907-0D5E18EE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73785-1BE5-4481-9E44-DC9C798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835-208E-4692-A220-7AEBC0E4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3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5ED-4D70-4484-B189-31E10FA5F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834-D98A-4BFF-BE4A-5D1E3B585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9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A96F-C139-4031-9FE7-FF2933F70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15D-1ED9-4047-8A32-17017509F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7072200" y="333360"/>
            <a:ext cx="178776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628-2A30-4744-840A-D8620D535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7072200" y="404640"/>
            <a:ext cx="17877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8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D4E-23A2-4837-AD7A-B59C01B6C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1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181-E9F6-4EF1-8D2B-81C322B73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4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4B81-65BC-4E22-BFE8-019CBABB0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7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7BB-F047-483B-9CA4-58CCC7054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0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FA7-7F53-4F22-93E6-C1931D5D5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_@list.ru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6421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Наименование проект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кроволновый (СВЧ) плазмотрон вихревого типа атмосферного давления»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правление конкурса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Химия, новые материалы, химические технологии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2484360" y="429264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научный сотрудник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хо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НУ ВНИИ СХРА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ti_@list.ru</a:t>
            </a: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(920)887-68-3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3"/>
          <p:cNvSpPr/>
          <p:nvPr/>
        </p:nvSpPr>
        <p:spPr>
          <a:xfrm>
            <a:off x="1258920" y="404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нкурс молодежных научно-технических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лужской области, в рамках программы «У.М.Н.И.К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3000240" y="6143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нинск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одзаголовок 2"/>
          <p:cNvSpPr/>
          <p:nvPr/>
        </p:nvSpPr>
        <p:spPr>
          <a:xfrm>
            <a:off x="2556000" y="3429000"/>
            <a:ext cx="6329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Тихонов Александр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ГНУ ВНИИ СХРА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ail: ti_@list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8(920)887-68-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Руководит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Иванов Игорь Анато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8(910)914-20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. Актуальность и новизна проект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24000" y="98100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острая необходимость 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экономичных, простых и надежны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сточниках низкотемпературн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то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лазмы для применения в перспективных направления развития науки и промышленности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rcRect l="15891" t="0" r="9520" b="0"/>
          <a:stretch/>
        </p:blipFill>
        <p:spPr>
          <a:xfrm>
            <a:off x="684360" y="2997360"/>
            <a:ext cx="3382920" cy="35096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356000" y="285264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несение алмазных и алмазоподобных покрытий с целью многократного повышения долговечности пар трения, а также инструмента, оснастки и других издел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зменные технологии газоочистки, обезвреживания и утилизации опасных и ядовитых от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зменно-химическая модификация поверхносте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бработка 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611280" y="1412640"/>
            <a:ext cx="820872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и различные устройства генерации плазмы на основе электрических разрядов постоянного тока, переменного тока промышленной частоты, ВЧ и СВЧ разрядов. К несомненным достоинствам СВЧ-генераторов плазмы относится создание «чистого», безэлектродного разряда (отсутствует загрязнение плазмы и обрабатываемого материала продуктами эрозии) в сочетании с гибкостью и энергетической эффективностью подвода электромагнитной энергии к рабочему телу, а так же отсутствие электрического и теплового контакта с элементами конструкции разрядной камеры. В настоящем проекте разработан один из таких плазмотронов – вихревой безэлектродный СВЧ плазмотрон атмосферного давления с температурой ионов в плазме порядка 5000-6000 К. Для него так же был создан СВЧ-источник непрерывного реж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азвание 1"/>
          <p:cNvSpPr/>
          <p:nvPr/>
        </p:nvSpPr>
        <p:spPr>
          <a:xfrm>
            <a:off x="45720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. Актуальность и новиз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2. Сущность проект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599840"/>
            <a:ext cx="554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елью проекта является проведение исследований и разработка линейки микроволновых (СВЧ) плазмотронов вихревого типа атмосферного давления для широкого спектра промышленного примен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В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ходе проекта будут проведены исследования физико-химических принципов работы предлагаемых приборов применительно к конкретным технологическим задач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результате опытно-конструкторских работ будут изготовлены и испытаны образцы-прототипы промышленных приборов, на основе чего будет вестись поиск потенциальных заказчиков и партне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rcRect l="7855" t="0" r="11414" b="4004"/>
          <a:stretch/>
        </p:blipFill>
        <p:spPr>
          <a:xfrm>
            <a:off x="5940360" y="1557360"/>
            <a:ext cx="295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3. Потенциальный рынок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веденных работ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удут изготовлены и испытаны образцы-прототипы промышленных прибор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. К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онеч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ый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продукт по проек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ряд моделе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икроволновых (СВЧ) плазмотронов вихревого типа атмосферного давления для широкого спектра промышленног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име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384360" cy="27432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468360" y="3429000"/>
            <a:ext cx="4906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онечным потребителем продукт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будут предприятия научно-промышленной сферы в направлениях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казанных ниже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аки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тенциальных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потребителей в РФ и за рубеж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ного, рынок далеко не насыщен</a:t>
            </a:r>
            <a:r>
              <a:rPr b="0" i="1" lang="en-US" sz="2000" spc="-1" strike="noStrike">
                <a:solidFill>
                  <a:srgbClr val="7f7f7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енциальные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ения СВЧ плазмотрон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алмазных и алмазоподобных, карбидных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нитридных и т.д. плено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щивание нанотрубок и других наноуглеродных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зменные технологии газоочистки. Обезвреживани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ядовитых и инфекционных выбросов и отход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чистка и стерилизация воздух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звреживание и утилизация опасных, ядовитых и отравляющих веществ в т.ч. пестицидов, ядохимикатов, компонентов химического и бактериологического оруж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изация и утилизация опасных медицинских отход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зменно-химическая модификация поверхностей деталей из сталей, сплавов, керамики и полупроводниковых материалов (травление, азотирование, очистка, легирование и др.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рка и резка тугоплавких материалов, в т.ч. в защитной атмосфер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ыление, наплавка порошковых материал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иролиз углеводород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тез химически чистых нанопорошков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ксидов, карбидов, нитридов и метал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-430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жиг пылеугольных котлов, безмазутны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и сжигания тяжелых уг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97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45720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3. Потенциаль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209160" y="41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372360" y="141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651640" y="5084640"/>
            <a:ext cx="208908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4. Конкуренты и преимуществ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78920" y="1267920"/>
            <a:ext cx="8713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260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е преимуществ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6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м отличием СВЧ плазмотрона атмосферного давления от других методов осуществления, например,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ХО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цессов, является отсутствие необходимости использования вакуумных или реакционных камер, поскольку плазму СВЧ разряда можно поддерживать при атмосферном давлении. Таким образом, в принципе, открывается перспектива существенного увеличения спектра изделий, на которые в целях упрочнения или антикоррозионной защиты наносится алмазная пленка, т. к. появляется возможность  перемещать  относительно плазменной струи детали практически неограниченных размеров и сложной конфигурации</a:t>
            </a:r>
            <a:r>
              <a:rPr b="0" i="1" lang="ru-RU" sz="16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260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уществующие разработк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6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пример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ыпускаемые серийно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СВЧ плазмохимические реакторы для синтеза алмазных пленок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ПСА-100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имеют ограничение по размеру обрабатываемых деталей из-за использования вакуумной камеры и по скорости осаждения пленки – по причине низкого рабочего давления (0.05 – 0.15 атм). Можно ожидать, что при атмосферном давлении скорость осаждения возрастет на порядо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260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вестны также попытки осуществления ПХО на лазерном плазмотроне атмосферного давления. В настоящее время максимальная скорость роста алмазной пленки, достигнутая на лазерном плазмотроне составляет ~ 120 мкм/ча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нако достигнутое повышение скорости осаждения сопровождалось повышением сложности и стоимости оборудования, снижением его кпд и качества пленк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4. Конкуренты и преимуществ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/>
          <p:nvPr/>
        </p:nvSpPr>
        <p:spPr>
          <a:xfrm>
            <a:off x="382752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lmtp_clip_image004_0002" descr="Алмазный диск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617840" y="587628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мазный диск диаметром 57 мм толщиной 0,5 м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щенный в СВЧ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5. План-график реализации проект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78920" y="148428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52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Arial"/>
              </a:rPr>
              <a:t>Примерный п</a:t>
            </a:r>
            <a:r>
              <a:rPr b="0" i="1" lang="ru-RU" sz="2000" spc="-1" strike="noStrike">
                <a:solidFill>
                  <a:srgbClr val="7f7f7f"/>
                </a:solidFill>
                <a:latin typeface="Calibri"/>
              </a:rPr>
              <a:t>лан-график </a:t>
            </a:r>
            <a:r>
              <a:rPr b="0" i="1" lang="ru-RU" sz="2000" spc="-1" strike="noStrike">
                <a:solidFill>
                  <a:srgbClr val="7f7f7f"/>
                </a:solidFill>
                <a:latin typeface="Arial"/>
              </a:rPr>
              <a:t> п</a:t>
            </a:r>
            <a:r>
              <a:rPr b="0" i="1" lang="ru-RU" sz="2000" spc="-1" strike="noStrike">
                <a:solidFill>
                  <a:srgbClr val="7f7f7f"/>
                </a:solidFill>
                <a:latin typeface="Calibri"/>
              </a:rPr>
              <a:t>редполагаемых основных этапов </a:t>
            </a:r>
            <a:r>
              <a:rPr b="0" i="1" lang="en-US" sz="2000" spc="-1" strike="noStrike">
                <a:solidFill>
                  <a:srgbClr val="7f7f7f"/>
                </a:solidFill>
                <a:latin typeface="Calibri"/>
              </a:rPr>
              <a:t>реализации проекта</a:t>
            </a:r>
            <a:r>
              <a:rPr b="0" i="1" lang="ru-RU" sz="2000" spc="-1" strike="noStrike">
                <a:solidFill>
                  <a:srgbClr val="7f7f7f"/>
                </a:solidFill>
                <a:latin typeface="Calibri"/>
              </a:rPr>
              <a:t> и описание их содержания</a:t>
            </a:r>
            <a:r>
              <a:rPr b="0" i="1" lang="ru-RU" sz="2000" spc="-1" strike="noStrike">
                <a:solidFill>
                  <a:srgbClr val="7f7f7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экспериментальной баз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иск и приобретение недостающих приборов и обору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работка и изготовление СВЧ компонентов волноводного тра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4176720" cy="2851200"/>
          </a:xfrm>
          <a:prstGeom prst="rect">
            <a:avLst/>
          </a:prstGeom>
          <a:ln w="0">
            <a:noFill/>
          </a:ln>
        </p:spPr>
      </p:pic>
      <p:sp>
        <p:nvSpPr>
          <p:cNvPr id="518" name="Содержимое 2"/>
          <p:cNvSpPr/>
          <p:nvPr/>
        </p:nvSpPr>
        <p:spPr>
          <a:xfrm>
            <a:off x="179280" y="2852640"/>
            <a:ext cx="446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352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f7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работка конструкции и изготовление СВЧ плазмотрона. Проведение испытаний на атмосферном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экспериментального стенда. Проведение экспериментов с использованием различных рабочих газов (аргона, гелия, водорода и др.) и 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8:45:22Z</dcterms:created>
  <dc:creator>MARISHA</dc:creator>
  <dc:description/>
  <dc:language>en-US</dc:language>
  <cp:lastModifiedBy>User</cp:lastModifiedBy>
  <dcterms:modified xsi:type="dcterms:W3CDTF">2011-05-24T14:37:33Z</dcterms:modified>
  <cp:revision>55</cp:revision>
  <dc:subject/>
  <dc:title>Наименование проекта</dc:title>
</cp:coreProperties>
</file>