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3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3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 type="sldNum" idx="3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C255-31FA-4C78-B551-1272E9B585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брый день, уважаемые эксперты и участники молодёжного конв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ашему вниманию представляется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втоматизированная система проведения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ля формирования кадрового и инновационного резерва развития Калуж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проходит много мероприятий (конференций, форумов, съезд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схожи по тематике и слабо между собой скоординиров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ая ситуация не удобна как организаторам, так и потенциальным участн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то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ело собрать аудиторию, которая бы пришла на мероприятие, соответствовала его тематике и получила новые знания, а не просто пришла в качестве слуш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принять решение, какие направления форм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ьные участ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нформируются о планируемых меропри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дно информируются, что остается на регистрацию и подачу документов 2-3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даются в совете, на какое мероприятие, на какое направление им подавать документы, чтобы развить и пополнить свои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08B1-68ED-4E72-9DD9-F7C9C9350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оект предлагает решение этой пробле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ем для ее решения комбиниру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факторная оценочная моде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эксперт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X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активная база знаний по мероприят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формационная среда для студентов и сотрудников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это позволя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все направления технических знаний специалис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овать его к выступлению на тех или иных мероприятия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ировать заполнение заяв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доступность информации по проводимым мероприятия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ть в единое информационное пространство школьников, студентов, специал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AF6B-E1AD-4745-A8A0-FE9EAE328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проекта должна быть создана комплексная экспертная система сопровождения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ю системы буд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открытых, свободно-распространяемых программных продуктов и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яжение с популярными социальными се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системы приведет к увеличению эффективности и сокращению затрат на проведение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48FA-E87D-41FD-B868-7A36C39B5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оведения мероприятий будет востребована как предприятиями (организаторами), так и участ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озво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ть проектирование мероприятий на его баз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ть полученные знания в информационный пор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тору – эффективно сопроводить меропри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у – запланировать участие, подготовить документы и зая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BB5D-261C-437C-BBD5-271C84BFA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 состав системы будут вход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Электронный па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лендарь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дсчет рейтин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втоматизированное офор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бор, хранение да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A143-ED2D-459D-85E4-CFDCFBB9E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имущества системы в том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на является свободно-распространяемым продук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 нее вкладываются собственные методики оценки качества проведения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истема позво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частнику – дать обратную связь по качеству проведенного мероприятия, порекомендовать другие меро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рганизатору – оценить сильные и слабые стороны меро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оект развивается и поддерживается Советом Молодых Ученых Калуж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EE32-466D-4113-B580-48914ABB1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реализации проект пройдет стадии от анализа предметной области до разработки и внед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ление с предметной обла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технического задания и реа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циа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8FD2-0D60-46C6-B9B4-F51DDCB60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ый момент система находится в стадии разрабо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ованы модуль электронного паспорта пользователя и новостной рес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ся интеграция модуля генерирования документов в сист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 разрабатывается электронный паспорт меро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удущем планируется доработка существующего и создание заявленного функци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6E1A-A51C-4490-9C30-A0FEB2694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226A-D6DA-41C2-ADFA-5336104A9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975C-0A3A-422B-BDEC-EAADFCDF46A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D67CC-5EB7-4513-8160-5C86D83F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CC29E8-0D47-4BC0-87B3-4C13A003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A1B9B-4724-4C9B-8B03-06FECD97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9E74B7-426C-496C-9C06-4AD87E2E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E22392-7015-43C4-99F6-B17C43E6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472703-6259-4E0E-9DC4-B20AFE54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B466EF-67CD-40D1-999C-C428B23B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B6BAF8-D714-48C9-95F5-05CE6C3C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C63804-AA90-419E-8109-E3FD5B95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C2A5BF-1947-4666-A4A2-76186E29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4977-BBFB-496D-A495-3D4C819A9A1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B7A412-C873-4EE3-B807-BD2828F8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CC084A-DD0C-45B0-8170-AE7B704C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30A477-9F7E-4959-955A-8B77A276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FC4547-8F9B-4573-AE20-96A6EA86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A579D5-6B94-4B0D-872E-260F8C28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9A9C54-8D81-427E-B920-E4659E20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72D25D-A776-4651-A073-AE238E8E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392EFD-1D14-469D-9910-AEB7D462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114BC6-6FAB-4C36-888D-D398C38A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BC6EFD-6975-4970-924C-F43103EC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887A-78DA-4863-92E6-747F012BDD8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47B01C-C661-460D-A167-BE74BA1E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38F83B-FB58-4315-8E7C-9F6F5FAD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14FEA1-DFED-4829-9D3B-3CDBC321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BF933D-4003-4E30-A9AA-0DDC13DE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17E869-DC02-4F15-9E9D-933DF386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567C3B-1775-4F83-8C66-6750EF41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AF119E-959B-43E4-81EB-BE34BC03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82C360-6432-4EE7-9493-DFA8AFE1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4460B0-9B56-4CD3-A899-AA68AFB9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14D2C6-C7D3-4AFE-9179-8D0D13A2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5B822-E6B2-4D4B-8041-3CCD5663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6ED33E-2D6B-4680-90FD-4C26A14A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309FA4-2DA7-4C3E-B51C-9D9DC326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92788A-B715-4D32-984F-4D1A732C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E13ACA-1FB0-4B1E-BAF9-027E29EC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5BF228-EFA3-4AE5-A2FE-ABA1FCBD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AA2FD7-0B3D-406F-8B4C-9B877CDB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C584D7-D6F3-407A-A490-3877569D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C48537-EC5B-4ABB-9DD5-33CA0A19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4B6589-4BB3-4E6A-A8BF-F13BC461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86AFC2-0E5E-4618-87DD-21770E2C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8722A-67BF-44C1-9493-319F6BB7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BD6154-4345-4D44-90E5-B7221C09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07F7D7-835C-4A07-8CAF-61616871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F88F0D-BD54-45D3-8017-5FAF6DC3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982490-0F6A-444E-93E6-C799713B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FD196A-39D7-493D-BC34-91726DD3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614E3-8100-415F-B1A5-02143C77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6ED9C-16B3-455A-AF86-078D8DED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73A37-AC48-4DF5-887C-2142BCE9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F7432-7801-4B7C-81F3-C83BBB7A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7CFD9-27B4-4671-B36A-6A689E77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0180-D459-4E20-AC4F-2212E4E26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B8DC2-D87C-49BA-870F-2D2C0A41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A78A9-935E-4776-BF6B-088FF67C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B1548-48AB-4A14-BD8F-C804F689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A15CC-7528-4FED-BF67-97CFF51B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7A698-F2FB-48FF-B9BD-05701D06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6A644-D1B6-42A8-86D4-60D488855B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59A9E-1574-4476-8335-71139F1D2C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1D8D8-2760-4EE2-8668-C713EE42B8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50E41-214D-47CF-BB2B-1DA0FB0830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FB1E5-3EF9-4FE6-9A69-17369F054B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A40D-6AE9-438A-B5A9-224CE347F1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C712A-FC22-48B7-9AF5-9B7A59C9DD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9C156-04B3-4FC8-A02C-27F035380B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71708-91B1-43D6-8A5B-66E8DB6E93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64D15-DE15-4DD0-8FAA-2EA028E9CA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4868E-2931-4174-B132-6906B449B4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E3350-CCD0-4EC9-B0D4-3A6BC1E9AC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75847-FDF2-4037-81ED-761CAD718E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E378-9ECF-417A-A54F-341AF281B2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14E60-59BB-4FFF-86D2-67F76AAA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F589-8F01-4DB7-B3F4-A493B2D0394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DBE95-A759-4DD8-B77B-902AB90F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4A362-9644-4D1D-803C-BFD7077A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8C3DB-1342-4C06-9DB6-9CF6F72D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30CDE-598C-4DA9-9728-E3E9A5A5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19C00-76FE-41B6-93AB-0E953976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729E3-0F8B-489B-B224-25A47350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32665-E42E-4E71-B9FE-7D270341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75E9A-9033-405A-9B82-A057569B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475FB-670C-4F20-980E-64C69899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911B9-D634-435D-BC06-72C9FA24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0AE4-47A9-4623-A787-C0BAB3168D3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F0D42-5B94-4FEA-83FE-B4A28BF3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704D2B-80AB-4CAD-BBFB-460B859B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E6EABF-7EAF-4F98-8CBF-1F51DB71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1C535A-3646-4F83-AF9A-0A78FE06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2536A-D8B8-4FE5-B27B-8DC27F26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AF3FC-ED62-46A1-9364-10D1343E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5851E-FCE8-4BD5-85EB-10DACD0F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43DF3-8265-438B-9A93-F3A95FFB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346F98-3A78-44A0-8FEF-4356819D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4A6F13-C3B2-45B1-A4B2-9151107A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C9F5-F8C9-4172-B10F-8D7C91194A5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A71546-5762-49A2-A7B2-73A059EF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6C2CC9-F60D-4D1B-8CF4-84653914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833F74-B82A-4870-AA82-A08B0C1E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1640D-C3B6-496B-A7E1-F2A226C8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98992-865F-49E8-9F7B-39487DB5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1F4EFF-F22E-49F6-BFE2-3311D4A0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35C8B-D7EF-473F-91DC-AA7B84A6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58110-6702-4B57-8D92-8C7F6658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792A7-42B2-41AC-8A84-DA41EAF2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F692E-549C-47C4-B3B5-77D3650D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2E8B-C351-426E-8643-EAD0C71E6CC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67502-FF4D-4BF4-BB37-A01AE84D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91E94-4950-47BA-844C-DC65E8E7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B848E-CF3B-4143-921E-2450CF0D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660CF-AEA9-4BEC-BDA7-E2A98A5B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74243-59D1-4D1D-8C2C-D7EE1C8D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8209D-1D25-41EB-8409-47CEB47E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6B2A2-2F68-41CF-B64D-336232EB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3C1F4-0C50-480D-8230-9887B16E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064EF-799A-4F55-82CA-34BBBDE8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38205-7913-4D09-B276-49857C9F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D104-7F24-457B-BFA9-7DAFF080386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6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8B2832-DA20-4463-A546-3644B4DD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3991D-08DE-4262-9794-A01535FE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D3156B-32F3-4200-B1DF-2FCF9822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EFA29F-426D-452F-899B-7D200C8B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E8CC63-9B1F-4E2C-A4CC-51DFB2B0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C9E46-4F6A-468D-ABF1-23EF631C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47679-4057-4520-A4D0-FE9E95D8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F8880-B60F-4523-992B-3D817461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3D0ADE-D2EA-4547-AF85-791E2DDB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F5CCB-3D04-4F63-B048-3C2397B6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768E-E5A5-426A-A6DF-2266DA55F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A19C-6AE8-4C25-847A-2364D075791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3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4AF5-1687-443D-BA63-EA2EFE67E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F6CB-33CC-4067-8189-2BA74F3DE77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6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B291-BD5D-4CA6-8A7B-48C83EFF7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EECD-C6DC-478C-A3E2-B9876487F8E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9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8342-CF46-43AF-AB00-E2ECB1A82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AEA5-CD8F-4851-B3B7-2F41B92D763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768A-2EE9-4228-85E9-B25A54210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7072200" y="333360"/>
            <a:ext cx="1787760" cy="792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89940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DD0B-9401-413E-97F2-A7EC58BAC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7072200" y="404640"/>
            <a:ext cx="178776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1F53-E4DC-4168-9175-5C4C06117C1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8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7D89-57AD-475A-B5C4-4F8F33C6F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64C2-CBE9-4CBF-821A-5BF31748DC5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1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2789-9C66-4D16-8EF8-7954F0927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45DC-D4FD-44F2-B8D8-8056CC9B1E2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4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0552-102D-4C55-A41B-6237A01BF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15E2-3B19-4763-A123-73DA15F769A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7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74A1-FAEC-49F6-B912-CFC44B347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0DA5-A39E-47C5-A66E-3FBFB2A6A75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0"/>
          </p:nvPr>
        </p:nvSpPr>
        <p:spPr>
          <a:xfrm>
            <a:off x="6875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218A-69B1-4241-8E25-856B6724C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85688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Автоматизированная система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оведения мероприятий</a:t>
            </a:r>
            <a:br>
              <a:rPr sz="3600"/>
            </a:br>
            <a:br>
              <a:rPr sz="2000"/>
            </a:b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Система формирования кадрового и инновационного</a:t>
            </a:r>
            <a:br>
              <a:rPr sz="2000"/>
            </a:b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резерва</a:t>
            </a: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развития Калужской области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5330520" y="4592520"/>
            <a:ext cx="338436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Дунин А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ИАТЭ НИЯУ МИФ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3"/>
          <p:cNvSpPr/>
          <p:nvPr/>
        </p:nvSpPr>
        <p:spPr>
          <a:xfrm>
            <a:off x="826920" y="1699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КАЛУЖСКИЙ РЕГИОНАЛЬНЫЙ МОЛОДЁЖНЫЙ ИННОВАЦИОННЫЙ КОНВ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3071880" y="635796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ОБНИНСК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572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213840"/>
            <a:ext cx="82296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нинский институт атомной энергетики – НИЯУ «МИФ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 Обнинск, Студгородок,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Номер слайда 2"/>
          <p:cNvSpPr/>
          <p:nvPr/>
        </p:nvSpPr>
        <p:spPr>
          <a:xfrm>
            <a:off x="689940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C620-20FF-43A0-86AD-4B43EACB82EC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785880" y="4365720"/>
          <a:ext cx="7358040" cy="1563480"/>
        </p:xfrm>
        <a:graphic>
          <a:graphicData uri="http://schemas.openxmlformats.org/drawingml/2006/table">
            <a:tbl>
              <a:tblPr/>
              <a:tblGrid>
                <a:gridCol w="3679920"/>
                <a:gridCol w="367812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акты участ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акты научного руковод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нин Андрей Вячеслав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2ck@gmail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(910) 528-29-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усов Павел Анатолье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aapl@gmail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(910) 526-11-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429760" cy="7002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360000" rIns="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Актуальность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643120" y="1319040"/>
            <a:ext cx="62150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дея проекта соответствует намерению Президента РФ Дмитрия Анатольевича Медведева придать проекту информатизации страны общенациональный харак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689940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7F9B-8A0E-4B87-B95B-E2E96E12125E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357120" y="3286080"/>
          <a:ext cx="8429760" cy="3095640"/>
        </p:xfrm>
        <a:graphic>
          <a:graphicData uri="http://schemas.openxmlformats.org/drawingml/2006/table">
            <a:tbl>
              <a:tblPr/>
              <a:tblGrid>
                <a:gridCol w="8429760"/>
              </a:tblGrid>
              <a:tr h="579600">
                <a:tc>
                  <a:txBody>
                    <a:bodyPr lIns="137160" rIns="13716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фере проведения меропри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2516040">
                <a:tc>
                  <a:txBody>
                    <a:bodyPr lIns="137160" rIns="137160" tIns="137160" bIns="137160" anchor="t">
                      <a:noAutofit/>
                    </a:bodyPr>
                    <a:p>
                      <a:pPr indent="361800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ечение года проходит большое количество одноплановых, нескоординированных между собой мероприятий и конференц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1800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ует единая система оповещения потенциальных участнико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1800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бходим мониторинг и оценка роста интеллектуального потенциала молодых специалистов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проводимых мероприят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503" name="Рисунок 6" descr="apple_ipad_in_politic.jpg"/>
          <p:cNvPicPr/>
          <p:nvPr/>
        </p:nvPicPr>
        <p:blipFill>
          <a:blip r:embed="rId1"/>
          <a:stretch/>
        </p:blipFill>
        <p:spPr>
          <a:xfrm>
            <a:off x="357120" y="1371600"/>
            <a:ext cx="21099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429760" cy="7002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360000" rIns="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Новизна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Содержимое 8" descr=""/>
          <p:cNvPicPr/>
          <p:nvPr/>
        </p:nvPicPr>
        <p:blipFill>
          <a:blip r:embed="rId1"/>
          <a:stretch/>
        </p:blipFill>
        <p:spPr>
          <a:xfrm>
            <a:off x="341280" y="1341360"/>
            <a:ext cx="8534520" cy="5102280"/>
          </a:xfrm>
          <a:prstGeom prst="rect">
            <a:avLst/>
          </a:prstGeom>
          <a:ln w="0">
            <a:noFill/>
          </a:ln>
        </p:spPr>
      </p:pic>
      <p:sp>
        <p:nvSpPr>
          <p:cNvPr id="506" name="Номер слайда 3"/>
          <p:cNvSpPr/>
          <p:nvPr/>
        </p:nvSpPr>
        <p:spPr>
          <a:xfrm>
            <a:off x="689940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F699-EB9B-4887-A9C2-A22AD5B9E3C1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429760" cy="7002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360000" rIns="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Цель проекта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Содержимое 4" descr=""/>
          <p:cNvPicPr/>
          <p:nvPr/>
        </p:nvPicPr>
        <p:blipFill>
          <a:blip r:embed="rId1"/>
          <a:stretch/>
        </p:blipFill>
        <p:spPr>
          <a:xfrm>
            <a:off x="341280" y="1341360"/>
            <a:ext cx="8461440" cy="5029200"/>
          </a:xfrm>
          <a:prstGeom prst="rect">
            <a:avLst/>
          </a:prstGeom>
          <a:ln w="0">
            <a:noFill/>
          </a:ln>
        </p:spPr>
      </p:pic>
      <p:sp>
        <p:nvSpPr>
          <p:cNvPr id="509" name="Номер слайда 3"/>
          <p:cNvSpPr/>
          <p:nvPr/>
        </p:nvSpPr>
        <p:spPr>
          <a:xfrm>
            <a:off x="689940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EC29-B7F3-4FF7-AE05-18B4EE32E256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429760" cy="7002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360000" rIns="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Система проведения мероприятий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689940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110A-6F5F-4CBB-8701-6A134A4FCCB6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357120" y="1357200"/>
          <a:ext cx="8429760" cy="5158080"/>
        </p:xfrm>
        <a:graphic>
          <a:graphicData uri="http://schemas.openxmlformats.org/drawingml/2006/table">
            <a:tbl>
              <a:tblPr/>
              <a:tblGrid>
                <a:gridCol w="3143160"/>
                <a:gridCol w="5286600"/>
              </a:tblGrid>
              <a:tr h="549360">
                <a:tc gridSpan="2"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зволит организации и предприят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373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440">
                <a:tc gridSpan="2">
                  <a:txBody>
                    <a:bodyPr lIns="137160" rIns="137160" tIns="137160" bIns="13716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ть унифицированную площадку для проведения научных, спортивных и других видов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ть единое информационное пространство для взаимодействия между предприятиями, организаторами мероприятий, ученых и специалис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зволит организато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137160" rIns="137160" tIns="137160" bIns="13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зволит участн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536920">
                <a:tc>
                  <a:txBody>
                    <a:bodyPr lIns="137160" rIns="137160" tIns="137160" bIns="13716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нерировать различные документы, протоколы, расписание и программы проведения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ть специализированную интеллектуальную автоматическую рассыл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137160" rIns="137160" tIns="137160" bIns="137160" anchor="t">
                      <a:noAutofit/>
                    </a:bodyPr>
                    <a:p>
                      <a:pPr indent="1810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евременно узнавать о планируемых мероприятиях через различные службы оповещ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1810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ьшить время и усилия на оформление заявок и регистрацию на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1810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анить и систематизировать информацию о посещаемых мероприят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1810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нерировать резюме и другие доку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429760" cy="7002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360000" rIns="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Состав системы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Содержимое 7" descr=""/>
          <p:cNvPicPr/>
          <p:nvPr/>
        </p:nvPicPr>
        <p:blipFill>
          <a:blip r:embed="rId1"/>
          <a:stretch/>
        </p:blipFill>
        <p:spPr>
          <a:xfrm>
            <a:off x="341280" y="1341360"/>
            <a:ext cx="8461440" cy="5102280"/>
          </a:xfrm>
          <a:prstGeom prst="rect">
            <a:avLst/>
          </a:prstGeom>
          <a:ln w="0">
            <a:noFill/>
          </a:ln>
        </p:spPr>
      </p:pic>
      <p:sp>
        <p:nvSpPr>
          <p:cNvPr id="515" name="Номер слайда 3"/>
          <p:cNvSpPr/>
          <p:nvPr/>
        </p:nvSpPr>
        <p:spPr>
          <a:xfrm>
            <a:off x="689940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86AF-8CFB-49BA-9772-32A3F2121234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429760" cy="7002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360000" rIns="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Конкурентные преимущества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Содержимое 4" descr=""/>
          <p:cNvPicPr/>
          <p:nvPr/>
        </p:nvPicPr>
        <p:blipFill>
          <a:blip r:embed="rId1"/>
          <a:stretch/>
        </p:blipFill>
        <p:spPr>
          <a:xfrm>
            <a:off x="341280" y="1341360"/>
            <a:ext cx="8461440" cy="5102280"/>
          </a:xfrm>
          <a:prstGeom prst="rect">
            <a:avLst/>
          </a:prstGeom>
          <a:ln w="0">
            <a:noFill/>
          </a:ln>
        </p:spPr>
      </p:pic>
      <p:sp>
        <p:nvSpPr>
          <p:cNvPr id="518" name="Номер слайда 3"/>
          <p:cNvSpPr/>
          <p:nvPr/>
        </p:nvSpPr>
        <p:spPr>
          <a:xfrm>
            <a:off x="689940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B92B-5996-48AD-9C24-D9DD5B2C2EAE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9280" y="356760"/>
            <a:ext cx="8785440" cy="693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360000" rIns="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Краткий план по реализации проекта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689940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3BAA-A85D-45F0-9623-7BE94E81FEDD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Схема 7" descr=""/>
          <p:cNvPicPr/>
          <p:nvPr/>
        </p:nvPicPr>
        <p:blipFill>
          <a:blip r:embed="rId1"/>
          <a:stretch/>
        </p:blipFill>
        <p:spPr>
          <a:xfrm>
            <a:off x="171360" y="1390680"/>
            <a:ext cx="8801280" cy="4834080"/>
          </a:xfrm>
          <a:prstGeom prst="rect">
            <a:avLst/>
          </a:prstGeom>
          <a:ln w="0">
            <a:noFill/>
          </a:ln>
        </p:spPr>
      </p:pic>
      <p:sp>
        <p:nvSpPr>
          <p:cNvPr id="522" name="TextBox 9"/>
          <p:cNvSpPr/>
          <p:nvPr/>
        </p:nvSpPr>
        <p:spPr>
          <a:xfrm>
            <a:off x="6710400" y="5286240"/>
            <a:ext cx="182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f7f7f"/>
                </a:solidFill>
                <a:latin typeface="Calibri"/>
              </a:rPr>
              <a:t>3</a:t>
            </a:r>
            <a:r>
              <a:rPr b="1" lang="en-US" sz="4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7f7f7f"/>
                </a:solidFill>
                <a:latin typeface="Calibri"/>
              </a:rPr>
              <a:t>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5"/>
          <p:cNvSpPr/>
          <p:nvPr/>
        </p:nvSpPr>
        <p:spPr>
          <a:xfrm>
            <a:off x="301680" y="6215040"/>
            <a:ext cx="329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* АС – автоматизированная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021040" cy="124452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29400" cy="693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360000" rIns="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Текущее состояние проекта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689940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9D7C-0510-40D6-8DFA-F662BD4E5B01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Содержимое 2"/>
          <p:cNvSpPr/>
          <p:nvPr/>
        </p:nvSpPr>
        <p:spPr>
          <a:xfrm>
            <a:off x="357120" y="128592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 из пунктов меню, отвечающего за заполнени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нение данных электронного паспор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8496000" cy="396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8:45:22Z</dcterms:created>
  <dc:creator>Анисимов И.И.</dc:creator>
  <dc:description/>
  <dc:language>en-US</dc:language>
  <cp:lastModifiedBy>Customer</cp:lastModifiedBy>
  <dcterms:modified xsi:type="dcterms:W3CDTF">2011-05-19T21:58:36Z</dcterms:modified>
  <cp:revision>236</cp:revision>
  <dc:subject/>
  <dc:title>Автоматизированная система проведения мероприят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TGHNxXWeOzasPtUqf3tNRvkY4LaGagDqxKWMRDBnKoc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026.3768</vt:lpwstr>
  </property>
  <property fmtid="{D5CDD505-2E9C-101B-9397-08002B2CF9AE}" pid="5" name="Google.Documents.PreviousRevisionId">
    <vt:lpwstr>04463249038781955217</vt:lpwstr>
  </property>
  <property fmtid="{D5CDD505-2E9C-101B-9397-08002B2CF9AE}" pid="6" name="Google.Documents.RevisionId">
    <vt:lpwstr>06695758569975738558</vt:lpwstr>
  </property>
  <property fmtid="{D5CDD505-2E9C-101B-9397-08002B2CF9AE}" pid="7" name="Google.Documents.Tracking">
    <vt:lpwstr>true</vt:lpwstr>
  </property>
</Properties>
</file>